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DCB-A779-4868-B70A-3B491767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ADEE-660B-4DA8-B36E-4BAB563E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75798-AB2D-498C-9E5E-0765E683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27FFA-876C-417E-A37E-74D55B58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079C2-FEFC-4248-8D03-6475F68A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40C67-2564-40E7-8E61-761936F4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9FF41-8ADE-4DD8-BABD-A5964FF2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50DC0-F1CC-4D95-99EB-5C03178E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136EA-3F41-4788-A70F-3CB9EB68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EA44C-2079-48FF-BCC8-3C62C69C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DE8CA-E506-4424-9FA4-E2FB4C50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8E048-23EF-4F85-913C-048718B3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FFB-EE94-45B3-AA05-A9BCB2B3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17B61-8B6E-4817-B431-AAAEB6AB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15727-27AC-41ED-8D69-9440F256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84E64-9C61-43D9-92A6-22BDADF2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D3E4B-3270-47C7-AFF9-A8E482BC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DF669-46B3-4E62-8E03-256F4CAB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B0B71-D317-4E5E-AC82-0B122AB8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27F44-BB69-44EE-B90D-5CF9988E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C45B0-6E71-4670-B956-E9BC9259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EE4C3-A7E9-4FE9-B649-144B90F3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82753-640A-4C61-B8ED-86C0B9C1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D94-5EAC-4965-93C1-AAD5953D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1C87A-6B13-445A-BA72-97285D66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158FC-46F1-492B-9C5E-6CB7188C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83A69-2820-4BF6-9506-648D33B7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43D7C-5144-4AE9-A78A-374886E3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02A92-927E-493B-94EF-6258607A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43A6C-662D-4F3C-9EAC-CDD735EA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4BC04-68DF-4EC8-93D9-A792B13E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BEF7D-7E09-4D74-BB24-D03A6927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5F512-3F7A-406B-A80A-8DD8FAA3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E19ED-7806-4E45-A9F9-0E153CD1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ED87-4650-4AA4-A44C-269B20D2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18234-70F0-48EC-8821-26919D26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A8A64-7193-4432-AC1E-0F46853D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34F69-2E62-496B-9389-0CE4C9C0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1E3F9-CE3F-462D-952E-591F5AF9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461C2-EC91-411F-9B7C-58AEBAE6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9808E-7C7B-4FD4-9AEB-79100A5E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4F241-D1DD-4D87-B3C8-99571E62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6F416-570A-464B-BE51-36DDDDE9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731D0-54AF-4DA7-9319-21AA6689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1C1D7-F96A-4841-B0D9-2DC502EF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B789-952E-4172-BFEA-5D0DBBD4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8CF99-46C1-4982-8DA4-2BA8261F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1BBBA-7438-4387-9460-15F8AE94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E4A9A-DC83-4E7B-AF53-9840F0FB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95B54-F70B-4FD1-BC2A-CFD2F5D0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90F1D-193D-48DF-BFF2-2A103836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F9079-9646-461A-BFB8-37A9FE43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D1759-D76C-4745-9F60-5AC2AB09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3B94F-2B5E-4612-89F2-9E8CD934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10EC10-AD9F-43D5-9172-21DC3CA2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38C568-5CE1-49F0-8344-9E0A8226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06A2-129F-4584-B595-A86D86C0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6E334-E017-4AF7-AFB3-152511C4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89F52-324E-40AD-ACC2-35FB7D55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4B854-CC96-4467-8E52-58FA2330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902C7A-B583-4B70-B954-505FB953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BEB62D-2094-45A8-A04B-605D3013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94D8F-A149-4282-992F-348911FA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2B43A-1B22-418A-9D99-E959C797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961E14-72D5-4B4F-A2B0-4AFB87DA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C3559-9352-42AD-BEC5-066B50F7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656385-A021-4D8E-95EC-13175C11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BBF1-5E19-4C4C-BBCC-675AAC66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71388B-E54B-4627-A82B-AEFA7929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D3E9C6-C755-4A75-8ECD-A1D7EBA4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24CC6-C22E-48F0-A334-F6213B47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CDD8FF-1752-412A-BC0E-21368B55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A99F9-04ED-4E1B-89E6-5E55B7F2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7990E3-9802-496D-B4F6-92B4D408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DB1FA8-DEBF-49F1-9810-2BD9EA60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B6C0A1-8C7D-4614-8738-693DDAC3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6E47FA-B975-41C2-9912-6BE3DD80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710083-3878-48E3-984B-06AAC20D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B831-E8C0-4ED2-AF1E-E47F2FF8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19EBEF-A460-4751-941B-9F7B97EC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CD1A64-F5B1-4E2E-8123-07951DAD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860FC0-B0B3-49A5-86BF-761430C1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689B25-86C8-486C-9449-4B0E3BC5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F625B1-DB8E-4947-A27F-7C941878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E7DD6D-2B86-4A07-832D-0FCE3BF2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5010C2-8C92-4BA9-BD96-C7937E30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009E35-1CCE-4CC4-9624-8FB4356A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8C6A44-44FE-4B7A-8847-37BFC49D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CBC25B-74F5-47FB-B1EA-B1DDB122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74E1-68BC-4CEC-BC2A-0089EA77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0E9812-99E0-4364-A96D-EEC75225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567D69-AA87-4F47-B784-A2B6C422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3AD39B-EACF-4C26-B859-611570F8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014F9D-C4FC-4202-BA64-0A308749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F6BD6-4138-40FA-8DE8-02DECDA5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FA9A24-B9F8-4272-A6E6-A065EC93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CD3E4B-E42D-4D28-BBDB-D166B489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49F7C1-2D1C-4C5A-8468-FD5213B3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8259BA-FD6D-43DC-823F-92D5530B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1188A8-4288-4B8A-98F2-42B1DFC3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F03D-D120-4243-A058-3EAC0D28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E2E03E-791B-479A-BF04-2D2F0311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B704D0-F0F5-4F92-AC8F-C6AF682A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3A12BC-35B8-4299-88B4-96470876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29203C-C221-4264-B58A-328EDA63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21C798-C632-4AC1-9DC4-D3A7B8C4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F82F7D-761B-417C-AAC1-7244B496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D73351-B7DA-4F2C-B276-C7E8653F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D9DF2F-6465-4D81-93C5-F1A28A60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434848-1654-4ED9-8FC9-AF9A4733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D4CC98-28B9-46F4-A424-3FEB0E8B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517-ACC8-4337-89D7-65658E07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15A8-A170-425C-828A-1A178956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4A68DD-6910-4250-A8C3-56E43884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AAA547-933B-40C0-9717-EC4DADEB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53E73E-7430-4796-A108-16114D2D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2B2A79-9CCE-49A1-BD02-A543F4F6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7891AA-2845-4283-A1B4-7B18CCEF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E81D04F-3A1A-4B77-A097-C47E7DDE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C213C81-278D-49E9-AAC3-8D36C49D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9213F57-EDEF-4150-BF6F-3422AB41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D35376D-59EC-471B-9251-B215F7D2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39B8D14-F60F-4280-969B-413AC724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4869-9F2C-4A06-9DD1-D999A831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807F402-7919-466A-B243-9B6A4C77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3E526D8-CB6A-4868-9379-DBE7B775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B256163-72F4-4F5E-A800-4913E06A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91F7072-FFA0-46B1-867F-47941EFF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7105714-987F-4EFD-9F99-68FE733D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F27374B-762E-459E-B189-70D8B722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FFF2A3F-2D26-474B-9EEF-945043C7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D54CCAE-E760-48D6-9795-3D8B7B4F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84E317F-1D2A-4254-B0F6-05819F53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7B8BFAB-363E-4BC8-AF98-280913D0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C25D-6F47-44FC-8C32-C35823F2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83C31C8-C1BA-4F14-B0D6-EE2C5BF2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13481B7-2785-40EB-B9B4-DB229FC0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FB4BA47-53F0-4705-B96F-B663271A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F350C6E-8790-496D-AF34-38092072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3C43C1E-EF7E-4BDC-AF78-454F2597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E782AC5-14B3-4152-ABD5-83FC7BC2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01EED8B-A6C1-4E68-89D1-73EE1E88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8E42A13-D187-4C0A-9C8F-55C4F090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4F606B0-6A5A-4BBA-AB86-65310FAF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004FA9-E1D1-4045-B504-DC077D15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2922-AFBC-40BE-B2EF-65A51A3B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C8BAF8-84FA-463F-8672-9E063834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9B97DB-B4CC-46B1-9417-5B4D862A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BEEA3F-BD6A-4A15-89ED-2AA50566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C03D3E-CC30-4AAA-94C4-57257F31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73A4B4-9FF0-4A93-A23D-FAC8CB80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C868B7-5D01-4E99-BAAC-0DB71839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11073F-95BB-4347-9B85-A44E78C0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6D4C8A-1371-4F11-A482-5BFF49F7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1167FE-E859-405A-9195-38DB4763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0119BA-E053-4465-9089-1784D91B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29AE-F7CF-416A-948F-70AC5E4B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D9F43E-E826-44CE-AE1B-503FB33B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DEE8EFA-3802-4912-AC5E-3E404E11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2DF5642-3EE5-4006-8171-AAA2AAB1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567B678-C1F1-43F7-A788-625D8B94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6D2B9C3-2EE4-4FDE-AAE5-A871956A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F654895-3229-4906-A3BC-B54B92E1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7B0ECD0-50AD-43DA-AD33-B9E1FE41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781F152-9FF9-434E-8DFC-9696DD1B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9CF9CEC-AA80-4C62-A399-2B2A14E9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8DAA5B6-F448-45EB-ACF6-54D5C85A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FCC32-2743-4B4D-81FC-2F619FC4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A1554A0-7E47-4CD6-A95A-9681B92B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EF77D49-56CA-4778-A200-DA04919B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7A993A3-E7AA-4BF2-8B00-6606E846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77311D-D8F6-4507-95B8-5A7C95C7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14BABD-EE83-4225-9804-B0C19FE3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DADA52-D230-4B59-B909-BC8D51CF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E589D6-2AA3-4FB9-A7BF-2136F2F2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9FF2E0-8864-4A8E-938F-DE6BBBA2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E56B93-FA85-482F-BB89-622CB7B0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8036A1-D88B-460A-8556-350E4AB4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5B67A-66AB-427D-B871-2C6B7A47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EF09A1-39D5-4652-94EB-E32A02D5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17C390-6E98-4D71-9535-8CF4F66A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5481A9-FD04-4AE3-A798-2CE4737A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2F81EF-E834-4469-8690-A14DF7ED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FC3D8F-736A-474D-8463-BFA742D8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62C2BA-5537-46FC-B4BD-BEAC2268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F0FED9-6ECE-4593-9F6E-6556EF40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1EE8F7-9E2F-44C2-B996-A2DA7625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E39F62-FE89-4D92-B6ED-C467F40E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9C79F2-A7D3-4E0A-8595-99F2DA43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07D16-56AF-436C-982A-16B641FD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CABD0B-5848-448C-930D-DF9D698D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3B6528-368E-4084-8582-01EBA41C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8568BB-69FA-4266-BADD-A62736F4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C67C8C-7D66-4335-AA74-A9C295EA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CD617B-A8EF-4712-8826-2A0889FD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5DC4EB-079A-4678-96AE-33B94AB0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205C37-E685-4495-82A4-E1C89D1A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A726A3-D2BC-48AF-9092-1E1CC2D1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D4BDBC-B26C-4878-A8D0-D057FE2E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9ACB7E-E342-4C71-B8F3-E517C0B7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6E271-9E92-41B2-BBA7-C9CCD23E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6F0B9F-E306-4787-B887-098FF088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AC169B-D394-427B-AB90-3BECE672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FA63D9-CABC-4387-9E15-816A3C39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7B590E-5E39-4230-9CD9-821C5B92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ACAD1A-C990-474C-ACD1-5D7D4590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64F11F-4E65-4A66-B012-70170AC6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75A792-B39A-4ECE-B706-9B930DA5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8823C7-1C75-4D6B-8C57-B7AEF13C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18F585-3F5B-4B4F-8991-B1249295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E150DD-4477-4DDF-91A8-0828C45B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B4033-5C23-4638-BA18-632BE9AB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F60BAD-219F-4A20-89CA-2C0CA952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1063AC-F170-49BC-AB25-FF716CD9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57B391-9815-49E9-9D7A-25288F43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01EBDC-3F0B-4126-A2D0-620FE6CC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86EC63-F6B1-4244-BCA0-6A197F3A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663159-869D-453E-A832-64D8CE3D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3C2F0D-8FA4-46A4-A48F-F9893549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DBC629-7512-4B39-B525-4A3C5688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7E66C4-F5AE-48B5-9BA8-98E3B5EF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BF1165-E412-4F7B-9D5F-58CF6558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A59-3063-4068-B22F-6B2378D1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8EA92-B18B-492A-92CB-C54E2033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ED66F6-FFE3-4C66-A62C-4CD736BA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BC09F9-B6AD-436F-9C53-762FC304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B45A89-D17F-4EAC-A0C5-D1591E28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9E229B-B51E-4E46-863A-DD46061D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335F03-5BAE-47B5-A1DC-08955180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0AA7F1-B5C5-4C5B-99B7-604FABFA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CD289D-A6E5-4E2A-8400-6133639C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4B155F-AB17-463C-91C5-B8F3B6C2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038035-C8D8-4885-B935-756943D7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3C3E7C-9A43-4A43-A412-BDDE12D0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9AAC2-962F-442D-BEDC-2B1758B0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B065DA-DE73-41D4-AD4B-180A2A99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BD7E96-B4FF-4531-B90F-D91CDD3F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EF2C89-2902-405F-9E97-300BB768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96B487-4E54-4386-BC8D-00AC49F1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D3D375-70D6-4F36-A806-7AC743CE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2EA599-1EA5-4CE5-8722-120283F5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F3D853-FBD9-4AA0-9EDC-19D43A64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627923-E4FF-467D-A4B0-F9793776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D50999-14DD-47F0-ABDD-2BDE803C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6F5B4C-C78E-4348-99CE-14A1DFA7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99BD7-10AC-4964-84B6-9E700266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143553-81ED-4733-8698-5B2E0C85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CD0C09-7EA3-4394-8A59-E8D5A4AE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70E9B4-972C-4E35-BB18-E5A5EE77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16DADB-B848-4217-9FC5-622A9F9F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DDB330-83FE-4194-9EDB-C71ABFF2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D2FA89-1834-4B99-9BBB-380C9998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C8D093-0299-4F40-8F33-A0D3A64A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02A113-8D0F-48B8-8D50-E717CB5B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EC2FD3-14CA-4937-AEB7-9DB2F97E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9AC702-4395-4DF4-A827-94CC6A1A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28990-E31C-45C0-A4EE-044E0875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CFD77D-1F20-44C9-BDE0-7E175667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FD2C23-DC48-45A7-9913-08F5E043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C0AFE7-75DC-4CF2-8EDD-3DAA58CF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C8AC96-3102-4313-8325-CAA33E1E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56C6D8-238C-4D5B-845E-E53310E7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92DAEB-57AF-4405-960E-BAFFFDA1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F797DC-4C3A-4D90-B860-37838231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1378DD-750E-4C6C-9051-CD8A8581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33B39E-93B0-457F-A776-1C3982D4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92AA6F-4035-4824-B9D0-67C72B03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9B383-85DD-4938-9E74-CBB77F19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F5EE01-8365-46C3-9D8E-855FC660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1B98E0-9921-44BC-8FFA-834DD995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DB8D5E-0DEF-4150-A100-E999EE59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FFB63A-F26E-4C3E-B4CF-C83B49B2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1F6DA1-C60D-4D4E-9F30-C3317FB3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3734AE-252A-4DB5-BB7C-39ED75A0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DC3454-3D30-4B69-8D23-67BC9F49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2EFD6E-82F7-4116-8C3F-B35126AF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6ACDDF-A845-4B5A-8AD3-0976A93F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AFA587-3BC4-46D4-B919-ABBE434A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18DD4-AB03-49B8-8C19-CE788601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F39C44-EDE0-4706-9FE2-6A3A12E3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E579D7-5D79-4D67-8B0C-A2DCDC2A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267C96-3110-4919-A888-0C12F76F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8CF93E-BE8D-469B-90AA-EF3D95C2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3A4956-C1EE-492B-B8BF-21F61C06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C57558-776A-4EC1-B05C-A21AE4AB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F07890-4618-402C-BF26-7D8903AE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36F9F9-53BB-4989-8795-930AF29D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6C0883-D58E-458F-8CA2-7E1F9A12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D2735D-6DAF-4CBC-A951-A694C88B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89124-B542-4585-9749-9CF44099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9047E8-6821-4F40-98D6-7E03F6A1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0E7CB5-E9AE-473E-8B01-CC98CBE7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F25A52-3145-4F43-B3DD-7256D395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7BF49E-9FC5-461F-BFB5-772BCE36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35E6F5-1F01-4AB5-BCB2-2BF09F4B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3E94CE-ACB4-49DE-AEEC-B3E1237F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4AE824-F6BC-46E8-9418-F8FA5C86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E3493A-B3F9-459C-83B5-860F1617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6C8A5B-587C-425D-9BBF-9E1F1D91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F22D99-F4B8-44B0-ABA0-BC089276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75BA6-26C5-46AE-8058-87CA85E5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E26F7E-4E4E-44D6-9AD8-DBA0CA0B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C20465-6E31-442E-AC07-A8C6F7DB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95922A-3641-4F5E-8523-6EB76565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82715-D4C9-484D-974F-74E90B94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ADC69-9F0B-4716-BCE1-10A59A69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4A3-F8D8-4103-B9E4-9F2CD630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0C0BB-978A-472A-B5E4-F10A866D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33CF1-FD59-4290-9C5C-D5864DEA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B4ABD-FD75-45FB-A89B-A0204252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53B39-3D9D-4610-996F-A338F5FB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07473-763C-406D-89AB-5069DECF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18F1C-B7A5-479C-842B-AA1FF3DC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930B6-72C6-4FF0-9190-59BE14C1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16A95-4837-4294-A7AA-848171EE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F4EAA-02E9-4D14-B424-0CC27D18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9E160-3915-4419-92E1-4AFF11AE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8A1D-FD8C-4748-BA5A-259E0699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AA706-1451-4AB3-9425-9B116A3F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77BBF-917B-4AD0-AB8D-AC24E983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22B24-9B04-4153-81BF-C62F14DD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6B968-CC02-4657-B514-9DBDBABF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DE8F6-619D-4D2F-AC27-471C94ED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F3E15-8CC0-4D37-9CF4-846A09F4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86D1D-0ED9-43C9-A395-72F353DA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13FD5-CD1A-4FB0-A3A5-DD37EC4C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0D703-ABF5-4507-AEB3-5CFCC1E9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3C298-A6E7-4562-AF11-54B6F1F4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1ED-4EDD-41CA-8276-8690E4E1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838E5-3989-49BE-BD57-06A285B9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CD39C-A761-49AB-83E6-9A7E1368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3FD9E-5681-47FA-9E8E-DBA5E085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5A9F4-7223-4918-B6ED-7D4188E2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C5DCF-90EE-4677-B645-3D2FD739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12321-B13C-4DCC-8B56-5EA193F7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A683C-D96A-4D98-B23F-4BBF2770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10931-9CF2-4835-AAE3-60F9A871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16B0E-ABEA-4FF9-8D18-4646DA2E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C1630-8A65-4F5C-A66E-ADD43D49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E3B0-5E89-489E-B219-1FB85756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936B8-2459-4B13-96EF-E485EE3C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60DE5-3726-4390-AD02-F103033A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CFFCA-152D-4392-8C99-C986D586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773C2-86A9-42A4-823F-4BC02DB1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5D543-4FC5-4338-BE2D-8B180123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A01A1-3927-47A0-917C-E420D79E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BFB67-04D2-4720-81FA-F571FCEE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B7D1C-380B-41AC-88A7-92130317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27069-9B72-4EF3-B1B1-9C10909A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63C9B-4330-4D4A-B14F-FE412A0F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B1CD-9B8C-41FC-B812-7E4F5C7E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D99AF-F3CD-41F4-8111-AC3CDB19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518B9-586B-466E-862E-F85D2E79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238FE-B232-4E04-B499-4D3EC061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9494F-9117-4392-9493-56950C35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886F0-8EF1-4038-9F92-ADBE6D9C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EE0C5-9CF4-4214-85C0-E09E9422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9C9E5-A28C-49CB-B0FF-DF93F0E5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AEC9A-16D1-42FC-AF81-826FFC4A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81056-0711-4A18-933D-EBF58223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E4DAC-4F7E-4F74-9DCF-59549707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0D0-1EF4-47BA-8AD6-C72DD46D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C807A-4A23-4B27-A9C3-A78DEA02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76847-F36B-4027-8883-05143AB8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DA236-F63E-4D6A-A6ED-683BE85D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6EA40-5A61-4C54-98E9-F9BCF5EB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1F21F-A107-49B2-99E1-34CC84B4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B2A37-6871-4E47-B3D6-51687452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D590D-3D1B-45B4-B386-B62B01A1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50B47-58F0-4AC6-BA79-4E784E0E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839C1-5306-4A95-AF6D-4113FE75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18414-C674-43F1-B386-61537D46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0B07-E539-4019-A956-2FB585B21825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DF89-7871-43C9-AC60-A4DD9CDDD9DA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F0A5-F321-435A-BA73-6AF2DBE309BC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D152-1FB9-4467-9587-EDFBA9AE68D3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ftr" idx="3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9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67E2-586B-4BEC-A958-A0A2F072340B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0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975D-6FEF-44BA-B192-59B83883A64D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4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5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7D33-D373-4FB6-8D22-5541846E6DD9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AD7E-DE47-407F-BFF2-7F79F415BE8F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1E3E-05FC-4841-9C36-43BFAB0C1D46}" type="slidenum">
              <a:rPr b="0" lang="en-A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sldNum" idx="52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8B9F-17F6-420B-8BA3-614E4FFD5231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dt" idx="5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ftr" idx="54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sldNum" idx="5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7853-1712-4A06-A211-EF19078464D2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dt" idx="56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ftr" idx="57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3947-DFFA-489E-94BA-27EC28A39631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5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5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60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0F04-E894-495B-93AD-331337035215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sldNum" idx="6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B5AE-7AC9-4178-8E6C-E48C6BCB9007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dt" idx="6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ftr" idx="6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997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8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999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6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6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6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6A5A-049E-40D6-B7A6-C2691EE6C257}" type="slidenum">
              <a:rPr b="0" lang="en-A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1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042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BCC3-6A75-43FC-9605-8C75F1236516}" type="slidenum">
              <a:rPr b="0" lang="en-A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6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 type="dt" idx="7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 type="ftr" idx="7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 type="sldNum" idx="7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47C2-3AA2-44FA-84EF-38E97ECF5E3C}" type="slidenum">
              <a:rPr b="0" lang="en-A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129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 type="dt" idx="7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 type="ftr" idx="7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 type="sldNum" idx="7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FEC7-3823-4746-B205-422E6DACEF08}" type="slidenum">
              <a:rPr b="0" lang="en-A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3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dt" idx="7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ftr" idx="7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 type="sldNum" idx="7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1992-B76A-4893-86F6-701A4DB2BC1E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6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7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8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9908-649E-4304-8808-A82CA5D45677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 type="dt" idx="8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 type="ftr" idx="8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 type="sldNum" idx="8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F432-39B9-40CE-A22D-C83CAFB11A6E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1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2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 type="dt" idx="8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 type="ftr" idx="8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 type="sldNum" idx="8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73CB-A3D1-4CFB-A419-FF6CEDE4473D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FBCE-E419-4626-84A9-7DA8444DA76D}" type="slidenum">
              <a:rPr b="0" lang="en-A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6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7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 type="dt" idx="88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 type="ftr" idx="89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 type="sldNum" idx="90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0243-9BF0-43C7-92E9-817251D06BA5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0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B856-10D5-4894-BDF3-0938786F6730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F437-8200-4881-A5DB-B30F39CDAF95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0E11-AC8F-4F84-8F10-E3D1AD4CF1EC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7924-5FD0-47EA-BA60-A00B521FBF7C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3E34-85ED-46C3-9EA9-35AA07C628F1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64AC-A7EE-4EDC-A458-12845BDDA93E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94EA-9CA9-47AE-B80E-44358A1686E2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ECOSYSTEMS DIFFER IN PRODU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Food webs, food chains, pyramids – you can also look at ecosystems through their productivit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Productivity is the rate at which chemical energy is produced in an ecosystem – expressed as ‘gram of organic matter per square metre per year’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609480" y="-343080"/>
            <a:ext cx="77724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Georgia"/>
              </a:rPr>
              <a:t>Primary Productivity of Ecosyte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Gross primary productivit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GPP) is the rate at which an ecosystem's producers convert solar energy into chemical energy as biomas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 Net primary productivit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NPP) is the rate at which energy for use by consumers is stored in new biomas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NPP = GPP – R [rate at which producers use biomass]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Productivity of ecosyste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457200" y="1599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Georgia"/>
              </a:rPr>
              <a:t>Generally ecosystems with the highest net productivity are those with the greatest accumulated producer biomas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Georgia"/>
              </a:rPr>
              <a:t>The higher the net primary production of an ecosystem, the more food is available for consumer organisms and the greater the biomass of consumers living in that ecosystem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0" name="Flowchart: Alternate Process 3"/>
          <p:cNvSpPr/>
          <p:nvPr/>
        </p:nvSpPr>
        <p:spPr>
          <a:xfrm>
            <a:off x="428760" y="3643200"/>
            <a:ext cx="1571400" cy="1357560"/>
          </a:xfrm>
          <a:prstGeom prst="flowChartAlternateProcess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Georgia"/>
              </a:rPr>
              <a:t>More producer biomas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1" name="Flowchart: Alternate Process 6"/>
          <p:cNvSpPr/>
          <p:nvPr/>
        </p:nvSpPr>
        <p:spPr>
          <a:xfrm>
            <a:off x="3357720" y="4071960"/>
            <a:ext cx="1842840" cy="1255680"/>
          </a:xfrm>
          <a:prstGeom prst="flowChartAlternateProcess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Georgia"/>
              </a:rPr>
              <a:t>More photosynthesi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2" name="Flowchart: Alternate Process 7"/>
          <p:cNvSpPr/>
          <p:nvPr/>
        </p:nvSpPr>
        <p:spPr>
          <a:xfrm>
            <a:off x="6429240" y="4500720"/>
            <a:ext cx="1714680" cy="1428480"/>
          </a:xfrm>
          <a:prstGeom prst="flowChartAlternateProcess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Georgia"/>
              </a:rPr>
              <a:t>More chemical energy stored in organic mat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1443" name="Straight Arrow Connector 9"/>
          <p:cNvCxnSpPr/>
          <p:nvPr/>
        </p:nvCxnSpPr>
        <p:spPr>
          <a:xfrm>
            <a:off x="2214360" y="4357440"/>
            <a:ext cx="857880" cy="28620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1444" name="Straight Arrow Connector 11"/>
          <p:cNvCxnSpPr/>
          <p:nvPr/>
        </p:nvCxnSpPr>
        <p:spPr>
          <a:xfrm>
            <a:off x="5428800" y="4929120"/>
            <a:ext cx="786600" cy="3578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14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Why does a desert ecosystem have a lower productivity than a tropical rainforest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What affects do temperature and hours of sunlight have on productivity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List some </a:t>
            </a:r>
            <a:r>
              <a:rPr b="1" lang="en-AU" sz="2600" spc="-1" strike="noStrike">
                <a:solidFill>
                  <a:srgbClr val="000000"/>
                </a:solidFill>
                <a:latin typeface="Trebuchet MS"/>
              </a:rPr>
              <a:t>limiting factors </a:t>
            </a: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for ecosystem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Explain why Australia does not have rich fishing grounds near its coas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47" name="Picture 3" descr="(1).gif"/>
          <p:cNvPicPr/>
          <p:nvPr/>
        </p:nvPicPr>
        <p:blipFill>
          <a:blip r:embed="rId2"/>
          <a:stretch/>
        </p:blipFill>
        <p:spPr>
          <a:xfrm>
            <a:off x="3571920" y="4692600"/>
            <a:ext cx="12142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40640" cy="126216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9000"/>
          </a:bodyPr>
          <a:p>
            <a:pPr marL="457560" indent="-45756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orbel"/>
              </a:rPr>
              <a:t>If light is needed for photosynthesis, but does not penetrate to the depths of the ocean, how does a consumer in ocean darkness feed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57560" indent="-45756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orbel"/>
              </a:rPr>
              <a:t>Explain how producers can exist in the dark depths of the ocean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57560" indent="-45756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orbel"/>
              </a:rPr>
              <a:t>Explain the difference between </a:t>
            </a:r>
            <a:r>
              <a:rPr b="1" lang="en-AU" sz="3000" spc="-1" strike="noStrike">
                <a:solidFill>
                  <a:srgbClr val="ff0000"/>
                </a:solidFill>
                <a:latin typeface="Corbel"/>
              </a:rPr>
              <a:t>photosynthetic</a:t>
            </a:r>
            <a:r>
              <a:rPr b="0" lang="en-AU" sz="3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en-AU" sz="3000" spc="-1" strike="noStrike">
                <a:solidFill>
                  <a:srgbClr val="000000"/>
                </a:solidFill>
                <a:latin typeface="Corbel"/>
              </a:rPr>
              <a:t>organisms and </a:t>
            </a:r>
            <a:r>
              <a:rPr b="1" lang="en-AU" sz="3000" spc="-1" strike="noStrike">
                <a:solidFill>
                  <a:srgbClr val="ff0000"/>
                </a:solidFill>
                <a:latin typeface="Corbel"/>
              </a:rPr>
              <a:t>chemosynthetic</a:t>
            </a:r>
            <a:r>
              <a:rPr b="0" lang="en-AU" sz="3000" spc="-1" strike="noStrike">
                <a:solidFill>
                  <a:srgbClr val="000000"/>
                </a:solidFill>
                <a:latin typeface="Corbel"/>
              </a:rPr>
              <a:t> organism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57560" indent="-45756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orbel"/>
              </a:rPr>
              <a:t>What is the energy source for photosynthetic organisms?  What is the waste product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57560" indent="-45756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orbel"/>
              </a:rPr>
              <a:t>What is the energy source for chemosynthetic organisms?  What is the waste product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Line 5"/>
          <p:cNvSpPr/>
          <p:nvPr/>
        </p:nvSpPr>
        <p:spPr>
          <a:xfrm>
            <a:off x="5638680" y="295416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1" name="Line 6"/>
          <p:cNvSpPr/>
          <p:nvPr/>
        </p:nvSpPr>
        <p:spPr>
          <a:xfrm>
            <a:off x="5638680" y="3394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2" name="Line 7"/>
          <p:cNvSpPr/>
          <p:nvPr/>
        </p:nvSpPr>
        <p:spPr>
          <a:xfrm>
            <a:off x="3200400" y="5076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3" name="Line 8"/>
          <p:cNvSpPr/>
          <p:nvPr/>
        </p:nvSpPr>
        <p:spPr>
          <a:xfrm>
            <a:off x="3200400" y="551016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454" name="Rectangle 9" descr=""/>
          <p:cNvPicPr/>
          <p:nvPr/>
        </p:nvPicPr>
        <p:blipFill>
          <a:blip r:embed="rId1"/>
          <a:stretch/>
        </p:blipFill>
        <p:spPr>
          <a:xfrm>
            <a:off x="42840" y="396720"/>
            <a:ext cx="7716960" cy="871560"/>
          </a:xfrm>
          <a:prstGeom prst="rect">
            <a:avLst/>
          </a:prstGeom>
          <a:ln w="0">
            <a:noFill/>
          </a:ln>
        </p:spPr>
      </p:pic>
      <p:sp>
        <p:nvSpPr>
          <p:cNvPr id="145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hotosynthesis: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use of chlorophyll.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Energy storing proces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6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+  6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O  +  </a:t>
            </a:r>
            <a:r>
              <a:rPr b="1" i="1" lang="en-US" sz="2000" spc="-1" strike="noStrike">
                <a:solidFill>
                  <a:srgbClr val="000000"/>
                </a:solidFill>
                <a:latin typeface="Corbel"/>
              </a:rPr>
              <a:t>solar energy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+  6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ellular Respiratio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erobic Respiration: 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energy releasing proces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+  6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 6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+  6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O  +  </a:t>
            </a:r>
            <a:r>
              <a:rPr b="1" i="1" lang="en-US" sz="2000" spc="-1" strike="noStrike">
                <a:solidFill>
                  <a:srgbClr val="000000"/>
                </a:solidFill>
                <a:latin typeface="Corbe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(ATP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aerobic Respiration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x.  Fermentation: 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energy releasing process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used by yeast and bacteri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3:56:39Z</dcterms:created>
  <dc:creator>Lyn Clarkson</dc:creator>
  <dc:description/>
  <dc:language>en-US</dc:language>
  <cp:lastModifiedBy>Lyn Clarkson</cp:lastModifiedBy>
  <dcterms:modified xsi:type="dcterms:W3CDTF">2007-10-26T01:24:27Z</dcterms:modified>
  <cp:revision>12</cp:revision>
  <dc:subject/>
  <dc:title>ECOSYSTEMS DIFER IN PRODUCTIVITY</dc:title>
</cp:coreProperties>
</file>